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C1B7-3004-496C-859C-6C0261DA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7BF-BD36-4220-9EB4-FC3DC1BE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828EB-48DA-4CAB-AB9A-0CA21F10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2770C-C740-491C-8EAD-3BDCD9AD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B2282-AA90-4257-A468-89B0F34C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0BC67-A913-4C07-9066-24AADB32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DE42A-797D-4479-80CD-B09DE1E8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38961-0050-4C89-B6C7-CFDD7293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55362-80D9-4F63-B575-14FBD868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8A8D3-3E26-4D36-9E88-5F3CCF03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FA05D-C15D-435E-8EF7-6678D899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ED59F-25AC-4220-9B5D-3C931C9F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6CF-9983-4E20-8AD4-5F86B80C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F602C-0C28-4527-8BAA-A765B388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527C9-6873-49B9-A97F-BFF0322D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26BCA-9022-423E-BC86-6514B661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B9FD4-B8F4-43F2-8903-8766C5B5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C760B-D441-40BB-B1E7-D7C19B4A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CC1BC-0E80-4C17-A0E2-5F44FBB9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27BEC-4B54-4E83-9DF8-025A49BE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03406-E667-4B68-BAD7-72292858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9335E-35D5-4657-9BFF-D82B2BC2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ACF2E-0CA3-4BE5-A54D-52FA3DB0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646-505F-46DA-ADF7-0A01911A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3407E-8279-4B26-8909-76789979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CEC3C-47BA-4D55-A6B8-2C8AE413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43848-F93C-4EB9-94AF-A929C616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F9A50-C8A7-415D-9831-D7483FA6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CA12A-3593-4856-B5F5-34C2D136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44F0F-9362-4E8E-9662-262F98FF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772FD-43B2-47F1-A8EC-B6D0E862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66B19-8582-4B32-8177-9837169C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C615C-DD0F-4666-8CD1-5BA8E7D4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81C4C-8BD1-4C92-9573-B880391A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F64E-B26C-4DC7-8ABB-1B1FD26F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B9F56-3217-41CD-BE24-339A1016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3210E-4109-40F9-B6ED-11D8C0C1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C3B84-3FC0-4250-9E05-89796CB7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31067-50AE-4C89-8530-C4A8BF97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CE931-9C69-4803-8816-AAAF7992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F719A-D0C5-428C-8959-CFB2FB0A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D3011-6B1F-4E6B-8CE2-99AB3173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8D0FA-7DB3-48D2-821D-CE92530E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FFD90-9F7C-4C40-B47E-F4125638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8D33E-9BD7-45FB-9594-894108B3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2205-3477-4C8E-85B4-A3623C5C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CAE8C-F53E-4742-85B6-FB83EDB5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666BD-7E48-4EA2-93C6-539F50CC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11177-EBA2-4E37-9554-59CDED08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65546-75C3-4101-A585-C5F8361A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155D4-B885-4E23-A624-6C3C90C1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42BA85-F275-4982-B4AC-2F1D9FDC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E6146-530A-4795-B35A-43813DA9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CB9692-8CE3-4320-BEDF-7EF9F9AD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0BB5F6-AA4E-4B75-A5B8-1A5A4697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06F81-B8DB-4AB4-824B-1D6B844F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F111-7BEA-43DA-B91B-E23F21AB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69F7C-A7B9-4F1E-91FF-4D997AE4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97C5E-E5A5-453D-805C-025DB5F7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29889-B16C-445B-AFF3-29CD79AD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A38C2-F359-4021-8B19-31ADAE82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0F5E92-85E6-4C97-A82A-D55988AD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11D487-9C96-4282-B768-4A8DB65E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444DA-76D5-4E90-99DF-9107FF07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E891C7-83F0-4568-82FA-8CBA2B1E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0ECF9B-BB19-46BE-BD3C-F8936B35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960E2F-DAA6-4AA7-A093-ABEE1339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7374-0CA6-4354-88E2-6027E419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E6AB12-69DD-450C-8151-4EDA44AC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30173B-B9CB-4C63-A234-C22AF5B0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7F7F15-E4E2-4A69-8904-DE3272CD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13C76-5759-4736-8E6F-057A0E58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DAF5A-02A7-4C41-81ED-F20DFACA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F69FB3-59E6-448E-AD56-8BE7F5BA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B21311-2B90-4D5C-A11A-5614627F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B498A-C24F-4A8E-98C4-5315FEFE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6BDCC0-4FC8-4459-8053-ED925053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D22D4A-7FA6-4570-A067-1031C553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AEB6-A020-407B-85FD-8B56A76A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47D770-7FC9-4CF5-A7F0-E8156B17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C6A9EA-B556-42B9-A3AF-4C1315FE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005DD9-C6E4-479C-A6EF-301CB6CD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A647B2-6816-4563-BC5A-A0F6049E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FA7B3-F141-48D0-8F08-BF95819F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66E07C-020D-4EB3-9DC5-69745CAD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61CFE0-29B2-4918-9F81-09D8D813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209C1B-7F39-4F63-83D2-BAA9A512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925214-0971-4B88-8B28-7102880D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7CBC42-2B0F-4948-8ABF-0F07A5E4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4F21-D710-437B-A8FA-0F66EF93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D98043-7FEB-47FA-8DD8-316CFC8C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3BB2C8-1635-4086-B10D-1DEB18C8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81B0A4-9AB0-4D60-9D48-C0B9C026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0FB0E1-DEFC-4721-BD71-18E7A1C4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6163FF-208E-4506-811E-8A8043D9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70E416-74EB-4C07-84D2-120BDC5A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5338CC-FD95-40F0-9DE3-E0924817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B73CB4-C366-4616-832A-76241EF6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55C936-796C-4126-99A5-3D1A2C60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0F61D6-F232-4B0F-B82F-9A0BFB88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77B6-47A6-4701-9E09-3B472F32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EC4A35-0C5A-404B-9DF0-504CFF02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3C8411-3516-4E30-B895-4B4FD73D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9DF33F-5381-44A0-826A-FB380390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0C0AF5-F033-4746-B1D9-68A84057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4E1D19-D4ED-4F51-A7E2-0329A446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00D481-F3A4-4055-8680-D9201CAA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678602-CE9B-4CDF-97BA-B8F08B15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98343D-CE17-4A8E-9329-0B50A42B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CE74AC-DAEA-4B53-8D97-190895EA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1A5BA1-3DA2-4D57-AD60-D4432A83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823-A095-48AB-82E6-18A29770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4653-0899-4D11-80A6-B64C6726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70D325-7562-4D08-8AEF-F89EA693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CFAEEA-0FCA-42DC-BC72-FD1EA578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04EF67-E20A-4E88-A1A8-162EE880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DFB7D1-6E10-4A1C-BBC4-B0EF6B71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7F14EA-CF39-4DEF-8B6B-000C3ED6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FBDE6B-2FB3-499B-ADD3-AA93714C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D6F5AB-CBCD-44E5-92C1-F61E0E92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25488C-392A-4842-A507-40CF95D8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4BC3E7-5F05-41CE-B0C2-2B0E5E20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720469-E28B-4079-9A1B-D0484333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7E6A-61D7-4D09-A2C6-D33515C9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8655D1-0134-4237-A62F-F5B0473B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5EAB23-DBFE-442B-A59F-D2D6EB35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C0C0F6-6E26-4C91-9F3A-EABBFC95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ED49E4-70D5-4385-A0BC-A04C38C7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535509-DF00-4E64-9094-86152363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27A9C4-FDB3-4898-9020-BE399B63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93AA98-D659-4350-89D0-EA78B562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991593-C8E5-4A5B-8F04-EA0A841D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3F4E27-FAED-445B-9D30-D2BCC873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948A48-E017-410A-84D7-972C9E80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8507-4E73-4640-8C41-68B3B2E1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16F8F9-4B05-4464-8134-7C02D0CD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A8B5E3-ACF2-4D58-9E20-E39E727B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338012-929C-4F39-9045-4E3BBB74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D29D2E-849F-4577-A88C-363D3BC5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8204C6-4CE5-47CE-9184-6C14D0C0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AD3678-DCF3-4298-8A77-027E94BC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A712EF-0F1B-4950-907B-CCEF38FC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A58263-1B79-432F-9131-9511A0E7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EA3A7D-C051-485C-9B18-BD5531B1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A96230-3C04-4C6F-8180-3E164B48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BF0F-E9BB-4DC6-BFCC-EE256C1F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C819FD-2759-4AFF-8376-5EE9F6B4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3DB61B-C4A6-4B60-99D2-47AC411A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AF2C79-174A-4C5C-9CD7-04899068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489398-0B24-4C78-B707-3B767A53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579ECA-B66A-4524-8DA6-374E8C44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644053-B233-4C00-89E9-F93374E3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17D4DB-BF95-4345-B478-C827C161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4F0850-9574-4A38-AD18-2C816719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5118E1-DC54-4B14-9ED5-9CAD4ED7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1169B0-282C-4417-9BF5-1DDFD047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12F7-AC91-4717-A62D-59E48BC1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48EFC2-D834-45CC-BC32-BDADFEF1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C413E2-3FC5-4BAE-B842-F9F74480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D82D57-3C80-407A-BDD4-65DA294C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352B8E-58A2-4BB1-B645-EEB05D82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F0B598-A6A6-4B1E-A45E-2745B7DC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D895E9-E084-434F-A082-090638EF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4E80C8-70E1-4A04-A7C8-EC72F776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89CCEF-D0C8-4CF1-890F-9B3E0B2D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7F5B8C-39C2-44C0-A9FA-DE8D6325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FD3764-2580-42EB-9784-FBB0A8B8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11D49-30DC-459D-A152-F42CEF32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0ABE40-2CC1-4BEE-A75F-49267F8D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FAE1A5-3A5A-477B-9578-5A695B0E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D1F634-BAD2-4732-94D7-A1FE8FB8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DCAC20-50FA-4757-B021-960492DB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67DCD4-6983-4FE3-853F-A410E516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0141CF-5F0E-457A-B15C-72CC1649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B46012-F8B5-4E01-9E99-03C47201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8110CF-E9CC-479B-AD8E-714CE868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83E33A-B965-4A6C-B9DB-C98B0DD6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7CEFBD-BF99-4EAB-9A45-90E54FAA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25ED0-F0D9-49AF-A3B8-B58C410D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B3D7DF-1EAD-4762-BC6A-426CACA5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29CFD2-0C0F-4D0F-BC5F-AD3DEB54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F1994A-1AAF-473D-8F42-0150ADDF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C9887D-7AA2-4C5B-AE5D-1308E162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14F2ED-B9FB-4E34-91BF-1450F14F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5C036E-0DE1-403A-9567-55093D3F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4435D2-F524-4B98-9A2A-1B480315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39763F-7E72-4A37-ABCA-83CD291D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109170-D5A2-4C09-8766-3DCC7DCD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71BDE8-C9CD-4F04-B438-968B5515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9A59F-444F-4DB9-BFCF-8523BF2E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31D95E-04B3-4F99-BD49-885514FC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DA72CC-26E3-40B4-BC1C-DFAD03F5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D664DD-35AC-4B8A-AAE6-4BF377CA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98810A-6CFF-4721-9BB4-44627289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D01FA1-187C-42E7-AF07-216BB507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BF8EAE-C864-4C04-929E-A343EA85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88C312-E92D-4984-8B3E-613A2AAF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8F73A4-A66D-42D3-9674-48A82D6F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90830D-0725-4206-9405-8681EFE2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1D65E1-9352-40AA-8373-A21DF29D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E6CFC-CA79-4440-ADCE-E65AEE3A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77BC97-73E2-4B9F-B395-CCE11578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5DC23E-6926-40E0-84B9-219D9A14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5A6FFC-A3A7-4BB5-B2A2-1845FE9E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AEC7F2-F1E6-4A13-8A6B-964CDE2C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E0E342-FA0D-4F3F-A4AA-3604CC45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CA3005-F0A6-4F87-9EFE-8AE4F763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019997-C1A8-4E80-B21D-62B50FFA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B4F2C4-F6FC-42A9-9E4A-3A47FDEE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400E3A-93E6-4CBD-AF08-EC0E283C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5AA5C9-7CC2-477C-9023-F53DD9EE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9BA81-660C-4B07-8F4A-2DD16830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42BF06-1F92-41EF-ACF4-14237907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C092A3-5531-4727-967F-B42BB435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107251-A8B8-4289-AEEF-438C7E9E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36D5CB-052E-4EFA-90DF-3C6B4F7A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EC0BBB-DBC7-48B9-94C2-C65D9478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4D1AA7-C3D6-4A3E-8495-A6653F77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85F9F8-7620-475D-B2E8-2E330628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16991E-506B-4CB1-BB44-4378B9F7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B5753E-B8DB-4267-B394-14505639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2CBD2A-9C09-44C4-A6FD-CDF09793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5F2-903D-43A9-B486-80BEC000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F0D60-7764-4BD2-9C70-9B76F471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A7BC1F-B247-498C-954C-4A40C629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DA8BB6-8416-4BD1-B922-2BB7A6FF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7109E6-1205-47CC-A78D-F42E9AB2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761929-B91A-4862-87BB-8B4C0717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776D72-3CF1-46B6-82F9-30723AAF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705E87-7B41-400C-BA4A-BB2F6F61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F35F1C-FFEB-4AF5-93B1-97DF5802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8FF1B4-F096-4626-ADA6-3C245A84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E48222-3A04-4A24-AB8D-DFF6E4E4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54ACB4-81F5-41FE-AFBA-98700FE8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3D96A-3B96-4FE2-AC7F-0A437FBC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07DE98-7799-4D1D-AE42-7CEC079A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0EEDCB-A3C4-4BD3-AEA6-F6B5035E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DD6823-E1D2-4F29-BD27-60B18102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585A0D-8347-4C4A-A4AF-30979ED4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E16B5C-D890-411C-AE08-0141A1D8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759DA5-74A5-4E99-9FBD-C7323C66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7F738B-C70E-4A09-9745-CB45D571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700D8E-B832-4807-9B84-1F272A71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559F1A-BE91-4F0B-B12F-9EE97D16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EB7C6A-8FE9-4311-8368-77CF780C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02E89-6A9C-424B-A8F1-7704E6E8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7229A8-300F-43B2-B076-083360AD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653635-EF90-4D4A-ADBB-6509978F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EF6CF8-D83F-49E1-BEC2-1D6788D4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62EB27-A3F7-4FDE-A363-7FA3FD5F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5F4DEB-824C-4DD2-8BA6-53B323BB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4A1D29-5665-47A5-B72B-B4759037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CF0E81-EDD4-46B9-98A7-C6DEF854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85F654-CB08-4F59-ADBC-A94582A6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4ECB2F-01C6-4498-8737-ED70FD23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2BB1FF-F1B9-4D28-93E9-2CD4032B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38095-BE57-4CC6-9712-8CF91B63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02474A-DA06-4C0B-8688-8D471EE7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1FCB2E-AD28-4A04-A765-3AC10076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2530E8-3AF6-4385-8797-79C1D15A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4A1E3A-9FD5-45F6-A51D-28AC528E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7D23F4-EE1C-4087-B8B7-AD202F98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897857-43AF-4E1A-9EEB-2B715501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54D9D3-CAF9-4E3C-B11F-C7F1A9FC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90584E-5FF0-4E75-9170-DF7CCEF1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6F3AA1-71D7-4906-A705-26DE5275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B3F86DD-E5C3-4D5D-B9EE-C66A3056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6BE87-0D50-4F54-8CB0-01C602B1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5DE959-7A83-479D-ADD9-096B0F14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810E66-2299-421F-B94E-090916C7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192DBA-0CD0-47CD-876D-2E13997D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0AD732-0E3E-458B-856A-66A28D02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994BF7-F225-41C4-8C59-91361154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6E4505-AE2D-407E-8D13-E8F9A0BB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FD3492-FAF0-4BA2-AB29-19257872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602666-30D4-4FA5-AF5C-D3F314A5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4BD563-13E3-456C-9CFD-0B014D55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D97897-3A4D-4135-AE2E-A73DF16E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36560-0CFA-45AB-8A25-BF7AF6E3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C3F73D-807C-4041-BACA-D57C2CDC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340004-5C64-430C-BAF2-E3280A00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457F27-54AF-47CF-9D87-9D48102A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06E771-50A2-4848-A6D0-7ABC1CCA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D41509-100D-46EC-9724-C95385D1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1811FF-3A9F-4DE7-B6ED-8AF02634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FB9D57-7287-44E3-9C73-0DBEC2E4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FD30C79-ABEB-437E-B14C-DA6C95CF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9D644B-F48C-4A7A-9FAC-2D975F2D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39A65B-CA31-4898-A51C-C033FAF3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3D2A4-4537-4A4D-B415-50C70BB5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43ED4F-AD0E-4304-94B5-9BF34F6C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45B657-227D-47A9-BAD0-56331683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C6BA23-872C-46B7-8618-9AADEDE3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DAB46B-98BF-4013-8465-47B774B5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186FDF-9FE9-49EC-BE65-F5C6615E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621969-3DA3-49F1-8A8F-E36891FF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B5E873-80C0-43AB-989A-AB1A91A2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F4BB0C-F687-4101-BA2C-A1D5C49B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629AB0-1270-4D6D-AAC3-C506E422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26EFFC-86FB-492E-951B-1C35C407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457BB-E2EA-4559-9C9F-C43FFCDE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796356-D9FA-4BB2-B5EF-17FB2029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1ADD9C-8A9A-4C0F-A5A2-27AA5551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E0C3C2-1193-433E-A4B7-DA22C381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05D38-06B8-4E67-8870-8D019920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57A77-1E0C-4043-AB26-0FFF48C4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3D1-D723-4595-A335-7013826B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80598-8076-472C-9856-CC69847B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69656-9941-46F5-AA7A-D5E1097C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595AB-B928-4B4C-9102-77360E32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4937D-EF54-497E-9344-90DC6620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83746-4FDF-4F11-93B3-6387550C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4B79B-B46D-4C16-9A6A-0F1C4776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0860B-D085-485E-9E2B-8CAFFBFD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26B51-6252-4EA8-AF5D-D1149BCC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4A88F-777F-4530-80D6-E06BE870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59C04-0F67-4D90-BFB4-6D3A7EED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5C14-548F-49C7-88A6-137BC5A5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3DF29-096D-478E-B7A8-5DF20535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4A260-2003-4670-BCC3-08F79141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30444-EFBE-4DB8-A4E1-13BB75E1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72B22-61DE-46AE-A00D-D813A51C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CCFC6-3863-416B-BF8C-08B71143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469D7-5E4F-436C-B023-AA594581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92D2C-7D64-489F-9C55-632CE13B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92C1C-347E-4051-B887-A7E6C761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ED6B9-C2CA-4B36-8546-CA14401C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9CD45-1634-4437-BDEC-795D06F3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C27-CD28-4BC7-9534-2C4DCF77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02D50-F2C2-417F-B4AC-98BBAD36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E3B51-26BB-4FDC-A505-F41885F7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3F61D-6320-484A-BE2B-33E45289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7C5BF-8D29-4F6F-B417-7F08D181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45CCC-CE2C-4C0D-A0C0-25DD3BCD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09BAF-A417-480C-9E6F-FF87780C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326CE-A0B5-4FD5-947A-C42C86CA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158DB-4F2A-4F45-8003-5875580D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7C65B-B349-47F9-805A-5FECA51A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A9590-FF99-4C54-85CB-CCA3675F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6D15-C057-448E-A0FF-95F43304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DFCBE-2A33-4524-BC29-C8B4F02C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E1611-A2B2-4332-BACC-7322017B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7B89B-106B-4F33-9756-02A73215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D6675-41E4-4168-9CC3-77660F62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CEFF5-5742-4FA0-A904-A683B88F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074CD-8AF0-43D5-901F-48111A18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F49DD-C7DB-4C3C-BF54-F82E0B32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8746C-8EE6-4E1B-B305-8A2E87A1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65138-98C1-4F40-B8BB-C394D650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98FDB-32F5-4E7C-8680-FB98F126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F16-19EF-4653-9409-879A6900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0EDAD-5E4A-4809-81BD-9D019F9C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1C101-1FBD-4C64-B6C4-33A49C49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BA640-43AB-403A-A245-699CAC62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61380-A370-4348-B52F-516DAE33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E30E5-09CF-4516-938B-41003103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8E8DE-DB56-4C4A-92AB-BBA20199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5B49D-1AE5-4660-9BB7-241ADAD5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54986-D229-4521-9127-64F91043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E726C-F945-4F93-BC0B-0FE4CE97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009C3-B28A-4A01-9097-1DF56C10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703-2CF3-4B39-9E81-C88262AE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D912F-2D37-4007-B53C-02303765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158D9-643C-4CED-8448-F66B12EE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34878-DB41-4CC2-835E-8CFD2399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305E2-89D4-4C36-B0D9-E91B15AA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F56ED-6D44-4FAE-8BAC-A08EC154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6D9F1-8CA0-4D69-B55C-D44760DE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77C96-EA77-4C98-B435-001E3139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9C512-7B19-49DF-82C0-924C5FF1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E46ED-CDA2-4739-A3C4-FE96D4D6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6C30C-5CED-456D-BF9A-049AEC8C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6AEE-146A-4B85-9EE6-B7976397B5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75F5-A5DB-47B2-BCB1-CD4E77C3CC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5405-28EF-4294-9BA0-2CD3E7F719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0D9D-AB37-4FBF-85FA-7C6E560663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D476-B0AB-4B4B-AFE8-8918A0CD90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576C-A0EB-4C8B-A029-1367FCE834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F3BF-65B2-4BE2-BA6A-9AA779C6BE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EF00-E72B-42AE-96D2-0FD697AC32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434B-CF5E-46A4-9F69-DCC0B9C7EC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F065-B2E1-4FEE-9C41-A18AAD1EF6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3138-EFCD-4400-98B6-E8CC815C3F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7426-A982-482E-877D-E5AFFB278B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A992-D994-4AF5-AF3B-9308C06812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EF74-74CF-4780-BF86-216EF05A31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B2B5-BE94-406E-8AAE-CC5F62B300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5880-1D84-48A8-BBDB-CB766C1647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4B93-B0AE-46FD-B6D7-57857B85CB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4851-289E-4881-8B1E-35DF0A81B6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DE1C-910C-4BFE-A449-02DD492CFA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293F-8679-4E45-8DD1-D3C69262AA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CE28-6D0C-4EA7-9CBE-12E2E2966B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F326-68A5-4B5A-82BF-907C952C44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B235-8274-40D5-AAD5-5CEBE90E51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14C1-EF3A-4B4F-B5B6-E9894F0F0B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0466-AE31-4D33-88A8-BC17C25D02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F349-6C79-49E4-8051-CAE2975EF3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A515-CC0D-45A8-9431-807F4E6B43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2712-D525-4CD2-B85A-B7067E0782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9733-8BB7-4639-BDEB-1E38D02F44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2BFB-22C4-4195-97C6-7C177D5F9A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28F9-5941-4812-8802-2A4B87B7F7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D6FF-42DA-4F69-99C5-CDB911B718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851F-955A-484D-A805-31FF2D74E2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11F0-A1BE-4CDE-B099-AA207AF635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9E73-C005-45B3-85EA-097E7156A8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B819-67A0-4F92-B45C-44B9A44E34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BAC5-6480-463A-B631-5ADE454D12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4803-BFC5-4BAE-874C-C29B7CF5B4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1647-1CFC-418F-9D34-1D3ED25ED0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E99C-06A8-4482-ADED-0ECE21B05E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4EEE-EC04-4ECE-B727-39B7B995B7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8F43-48B0-4420-9F27-C9C5B1D52C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E40C-40B1-4C6C-B7C7-15A8D63B72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0CDB-8FFE-4DA2-9C5A-A7E113A2A4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26B6-9D14-473A-8059-AB5CB61CBB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3C4D-5130-488C-8B0C-74DBB2D27C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C86E-BB3F-402F-ADB0-D3E6FBDF3C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6F28-B61C-405E-8AFE-43068E10BB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3F6B-0D1F-42F0-BBF7-58FC2D0E97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89B0-3F96-4C09-B3FA-03E4B7D969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2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4838760" cy="127656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3" descr=""/>
          <p:cNvPicPr/>
          <p:nvPr/>
        </p:nvPicPr>
        <p:blipFill>
          <a:blip r:embed="rId2"/>
          <a:stretch/>
        </p:blipFill>
        <p:spPr>
          <a:xfrm>
            <a:off x="2014560" y="2933640"/>
            <a:ext cx="51148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6737" descr=""/>
          <p:cNvPicPr/>
          <p:nvPr/>
        </p:nvPicPr>
        <p:blipFill>
          <a:blip r:embed="rId1"/>
          <a:stretch/>
        </p:blipFill>
        <p:spPr>
          <a:xfrm>
            <a:off x="419040" y="137160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16738"/>
          <p:cNvSpPr/>
          <p:nvPr/>
        </p:nvSpPr>
        <p:spPr>
          <a:xfrm>
            <a:off x="7935840" y="2631960"/>
            <a:ext cx="36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115713" descr=""/>
          <p:cNvPicPr/>
          <p:nvPr/>
        </p:nvPicPr>
        <p:blipFill>
          <a:blip r:embed="rId1"/>
          <a:stretch/>
        </p:blipFill>
        <p:spPr>
          <a:xfrm>
            <a:off x="419040" y="1614600"/>
            <a:ext cx="8305920" cy="3628800"/>
          </a:xfrm>
          <a:prstGeom prst="rect">
            <a:avLst/>
          </a:prstGeom>
          <a:ln w="0">
            <a:noFill/>
          </a:ln>
        </p:spPr>
      </p:pic>
      <p:sp>
        <p:nvSpPr>
          <p:cNvPr id="1470" name="矩形 115714"/>
          <p:cNvSpPr/>
          <p:nvPr/>
        </p:nvSpPr>
        <p:spPr>
          <a:xfrm>
            <a:off x="7834320" y="1700280"/>
            <a:ext cx="3603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114689" descr=""/>
          <p:cNvPicPr/>
          <p:nvPr/>
        </p:nvPicPr>
        <p:blipFill>
          <a:blip r:embed="rId1"/>
          <a:stretch/>
        </p:blipFill>
        <p:spPr>
          <a:xfrm>
            <a:off x="447840" y="1057320"/>
            <a:ext cx="8248320" cy="4743360"/>
          </a:xfrm>
          <a:prstGeom prst="rect">
            <a:avLst/>
          </a:prstGeom>
          <a:ln w="0">
            <a:noFill/>
          </a:ln>
        </p:spPr>
      </p:pic>
      <p:sp>
        <p:nvSpPr>
          <p:cNvPr id="1472" name="矩形 114690"/>
          <p:cNvSpPr/>
          <p:nvPr/>
        </p:nvSpPr>
        <p:spPr>
          <a:xfrm>
            <a:off x="6361200" y="4653000"/>
            <a:ext cx="231444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4691"/>
          <p:cNvSpPr/>
          <p:nvPr/>
        </p:nvSpPr>
        <p:spPr>
          <a:xfrm>
            <a:off x="1827360" y="5262480"/>
            <a:ext cx="324936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113665" descr=""/>
          <p:cNvPicPr/>
          <p:nvPr/>
        </p:nvPicPr>
        <p:blipFill>
          <a:blip r:embed="rId1"/>
          <a:stretch/>
        </p:blipFill>
        <p:spPr>
          <a:xfrm>
            <a:off x="504720" y="1724040"/>
            <a:ext cx="8134560" cy="3409920"/>
          </a:xfrm>
          <a:prstGeom prst="rect">
            <a:avLst/>
          </a:prstGeom>
          <a:ln w="0">
            <a:noFill/>
          </a:ln>
        </p:spPr>
      </p:pic>
      <p:sp>
        <p:nvSpPr>
          <p:cNvPr id="1475" name="矩形 113666"/>
          <p:cNvSpPr/>
          <p:nvPr/>
        </p:nvSpPr>
        <p:spPr>
          <a:xfrm>
            <a:off x="3351240" y="2265480"/>
            <a:ext cx="525312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3667"/>
          <p:cNvSpPr/>
          <p:nvPr/>
        </p:nvSpPr>
        <p:spPr>
          <a:xfrm>
            <a:off x="1598760" y="2862360"/>
            <a:ext cx="189360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3668"/>
          <p:cNvSpPr/>
          <p:nvPr/>
        </p:nvSpPr>
        <p:spPr>
          <a:xfrm>
            <a:off x="4532400" y="4068720"/>
            <a:ext cx="189396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112641" descr=""/>
          <p:cNvPicPr/>
          <p:nvPr/>
        </p:nvPicPr>
        <p:blipFill>
          <a:blip r:embed="rId1"/>
          <a:stretch/>
        </p:blipFill>
        <p:spPr>
          <a:xfrm>
            <a:off x="552600" y="2247840"/>
            <a:ext cx="8038800" cy="2362320"/>
          </a:xfrm>
          <a:prstGeom prst="rect">
            <a:avLst/>
          </a:prstGeom>
          <a:ln w="0">
            <a:noFill/>
          </a:ln>
        </p:spPr>
      </p:pic>
      <p:sp>
        <p:nvSpPr>
          <p:cNvPr id="1479" name="矩形 112642"/>
          <p:cNvSpPr/>
          <p:nvPr/>
        </p:nvSpPr>
        <p:spPr>
          <a:xfrm>
            <a:off x="5256360" y="3446640"/>
            <a:ext cx="1881000" cy="41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2643"/>
          <p:cNvSpPr/>
          <p:nvPr/>
        </p:nvSpPr>
        <p:spPr>
          <a:xfrm>
            <a:off x="2462040" y="4056120"/>
            <a:ext cx="362268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111617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16300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110593" descr=""/>
          <p:cNvPicPr/>
          <p:nvPr/>
        </p:nvPicPr>
        <p:blipFill>
          <a:blip r:embed="rId1"/>
          <a:stretch/>
        </p:blipFill>
        <p:spPr>
          <a:xfrm>
            <a:off x="538200" y="1905120"/>
            <a:ext cx="8067600" cy="3047760"/>
          </a:xfrm>
          <a:prstGeom prst="rect">
            <a:avLst/>
          </a:prstGeom>
          <a:ln w="0">
            <a:noFill/>
          </a:ln>
        </p:spPr>
      </p:pic>
      <p:sp>
        <p:nvSpPr>
          <p:cNvPr id="1483" name="矩形 110594"/>
          <p:cNvSpPr/>
          <p:nvPr/>
        </p:nvSpPr>
        <p:spPr>
          <a:xfrm>
            <a:off x="6170760" y="3827520"/>
            <a:ext cx="236196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0595"/>
          <p:cNvSpPr/>
          <p:nvPr/>
        </p:nvSpPr>
        <p:spPr>
          <a:xfrm>
            <a:off x="1611360" y="4449600"/>
            <a:ext cx="432900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109569" descr=""/>
          <p:cNvPicPr/>
          <p:nvPr/>
        </p:nvPicPr>
        <p:blipFill>
          <a:blip r:embed="rId1"/>
          <a:stretch/>
        </p:blipFill>
        <p:spPr>
          <a:xfrm>
            <a:off x="566640" y="971640"/>
            <a:ext cx="8010720" cy="4914720"/>
          </a:xfrm>
          <a:prstGeom prst="rect">
            <a:avLst/>
          </a:prstGeom>
          <a:ln w="0">
            <a:noFill/>
          </a:ln>
        </p:spPr>
      </p:pic>
      <p:sp>
        <p:nvSpPr>
          <p:cNvPr id="1486" name="矩形 109570"/>
          <p:cNvSpPr/>
          <p:nvPr/>
        </p:nvSpPr>
        <p:spPr>
          <a:xfrm>
            <a:off x="5688000" y="1033560"/>
            <a:ext cx="284472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09571"/>
          <p:cNvSpPr/>
          <p:nvPr/>
        </p:nvSpPr>
        <p:spPr>
          <a:xfrm>
            <a:off x="1522440" y="1604880"/>
            <a:ext cx="506556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09572"/>
          <p:cNvSpPr/>
          <p:nvPr/>
        </p:nvSpPr>
        <p:spPr>
          <a:xfrm>
            <a:off x="4356000" y="2286000"/>
            <a:ext cx="332604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09573"/>
          <p:cNvSpPr/>
          <p:nvPr/>
        </p:nvSpPr>
        <p:spPr>
          <a:xfrm>
            <a:off x="7529400" y="2976480"/>
            <a:ext cx="123192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09574"/>
          <p:cNvSpPr/>
          <p:nvPr/>
        </p:nvSpPr>
        <p:spPr>
          <a:xfrm>
            <a:off x="1446120" y="3598920"/>
            <a:ext cx="327024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09575"/>
          <p:cNvSpPr/>
          <p:nvPr/>
        </p:nvSpPr>
        <p:spPr>
          <a:xfrm>
            <a:off x="2855880" y="4792680"/>
            <a:ext cx="560376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09576"/>
          <p:cNvSpPr/>
          <p:nvPr/>
        </p:nvSpPr>
        <p:spPr>
          <a:xfrm>
            <a:off x="1471680" y="5389560"/>
            <a:ext cx="367668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图片 108545" descr=""/>
          <p:cNvPicPr/>
          <p:nvPr/>
        </p:nvPicPr>
        <p:blipFill>
          <a:blip r:embed="rId1"/>
          <a:stretch/>
        </p:blipFill>
        <p:spPr>
          <a:xfrm>
            <a:off x="642960" y="1514520"/>
            <a:ext cx="7858080" cy="3828960"/>
          </a:xfrm>
          <a:prstGeom prst="rect">
            <a:avLst/>
          </a:prstGeom>
          <a:ln w="0">
            <a:noFill/>
          </a:ln>
        </p:spPr>
      </p:pic>
      <p:sp>
        <p:nvSpPr>
          <p:cNvPr id="1494" name="矩形 108546"/>
          <p:cNvSpPr/>
          <p:nvPr/>
        </p:nvSpPr>
        <p:spPr>
          <a:xfrm>
            <a:off x="6602400" y="1503360"/>
            <a:ext cx="72864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08547"/>
          <p:cNvSpPr/>
          <p:nvPr/>
        </p:nvSpPr>
        <p:spPr>
          <a:xfrm>
            <a:off x="4913280" y="4462560"/>
            <a:ext cx="72864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124929" descr=""/>
          <p:cNvPicPr/>
          <p:nvPr/>
        </p:nvPicPr>
        <p:blipFill>
          <a:blip r:embed="rId1"/>
          <a:stretch/>
        </p:blipFill>
        <p:spPr>
          <a:xfrm>
            <a:off x="1228680" y="2533680"/>
            <a:ext cx="66866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3905" descr=""/>
          <p:cNvPicPr/>
          <p:nvPr/>
        </p:nvPicPr>
        <p:blipFill>
          <a:blip r:embed="rId1"/>
          <a:stretch/>
        </p:blipFill>
        <p:spPr>
          <a:xfrm>
            <a:off x="366840" y="1281240"/>
            <a:ext cx="8410320" cy="429552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3906"/>
          <p:cNvSpPr/>
          <p:nvPr/>
        </p:nvSpPr>
        <p:spPr>
          <a:xfrm>
            <a:off x="3059280" y="2708280"/>
            <a:ext cx="7506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3907"/>
          <p:cNvSpPr/>
          <p:nvPr/>
        </p:nvSpPr>
        <p:spPr>
          <a:xfrm>
            <a:off x="4329000" y="2682720"/>
            <a:ext cx="750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3908"/>
          <p:cNvSpPr/>
          <p:nvPr/>
        </p:nvSpPr>
        <p:spPr>
          <a:xfrm>
            <a:off x="6513480" y="2695680"/>
            <a:ext cx="7509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3909"/>
          <p:cNvSpPr/>
          <p:nvPr/>
        </p:nvSpPr>
        <p:spPr>
          <a:xfrm>
            <a:off x="7524720" y="2695680"/>
            <a:ext cx="7509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3910"/>
          <p:cNvSpPr/>
          <p:nvPr/>
        </p:nvSpPr>
        <p:spPr>
          <a:xfrm>
            <a:off x="2068560" y="3102120"/>
            <a:ext cx="7509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3911"/>
          <p:cNvSpPr/>
          <p:nvPr/>
        </p:nvSpPr>
        <p:spPr>
          <a:xfrm>
            <a:off x="1662120" y="4092480"/>
            <a:ext cx="750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3912"/>
          <p:cNvSpPr/>
          <p:nvPr/>
        </p:nvSpPr>
        <p:spPr>
          <a:xfrm>
            <a:off x="5294160" y="4105440"/>
            <a:ext cx="7509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3913"/>
          <p:cNvSpPr/>
          <p:nvPr/>
        </p:nvSpPr>
        <p:spPr>
          <a:xfrm>
            <a:off x="1471680" y="4587840"/>
            <a:ext cx="17920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3914"/>
          <p:cNvSpPr/>
          <p:nvPr/>
        </p:nvSpPr>
        <p:spPr>
          <a:xfrm>
            <a:off x="5141880" y="4600440"/>
            <a:ext cx="1792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3915"/>
          <p:cNvSpPr/>
          <p:nvPr/>
        </p:nvSpPr>
        <p:spPr>
          <a:xfrm>
            <a:off x="1446120" y="5095800"/>
            <a:ext cx="18306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3916"/>
          <p:cNvSpPr/>
          <p:nvPr/>
        </p:nvSpPr>
        <p:spPr>
          <a:xfrm>
            <a:off x="5446800" y="5095800"/>
            <a:ext cx="2438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122881" descr=""/>
          <p:cNvPicPr/>
          <p:nvPr/>
        </p:nvPicPr>
        <p:blipFill>
          <a:blip r:embed="rId1"/>
          <a:stretch/>
        </p:blipFill>
        <p:spPr>
          <a:xfrm>
            <a:off x="361800" y="1533600"/>
            <a:ext cx="8420400" cy="3790800"/>
          </a:xfrm>
          <a:prstGeom prst="rect">
            <a:avLst/>
          </a:prstGeom>
          <a:ln w="0">
            <a:noFill/>
          </a:ln>
        </p:spPr>
      </p:pic>
      <p:sp>
        <p:nvSpPr>
          <p:cNvPr id="1448" name="矩形 122883"/>
          <p:cNvSpPr/>
          <p:nvPr/>
        </p:nvSpPr>
        <p:spPr>
          <a:xfrm>
            <a:off x="8151840" y="3406680"/>
            <a:ext cx="36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图片 121857" descr=""/>
          <p:cNvPicPr/>
          <p:nvPr/>
        </p:nvPicPr>
        <p:blipFill>
          <a:blip r:embed="rId1"/>
          <a:stretch/>
        </p:blipFill>
        <p:spPr>
          <a:xfrm>
            <a:off x="328680" y="1300320"/>
            <a:ext cx="8486640" cy="4257360"/>
          </a:xfrm>
          <a:prstGeom prst="rect">
            <a:avLst/>
          </a:prstGeom>
          <a:ln w="0">
            <a:noFill/>
          </a:ln>
        </p:spPr>
      </p:pic>
      <p:sp>
        <p:nvSpPr>
          <p:cNvPr id="1450" name="矩形 121858"/>
          <p:cNvSpPr/>
          <p:nvPr/>
        </p:nvSpPr>
        <p:spPr>
          <a:xfrm>
            <a:off x="4367160" y="3051000"/>
            <a:ext cx="315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1859"/>
          <p:cNvSpPr/>
          <p:nvPr/>
        </p:nvSpPr>
        <p:spPr>
          <a:xfrm>
            <a:off x="4164120" y="3470400"/>
            <a:ext cx="23526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21860"/>
          <p:cNvSpPr/>
          <p:nvPr/>
        </p:nvSpPr>
        <p:spPr>
          <a:xfrm>
            <a:off x="6526080" y="3902040"/>
            <a:ext cx="23529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1861"/>
          <p:cNvSpPr/>
          <p:nvPr/>
        </p:nvSpPr>
        <p:spPr>
          <a:xfrm>
            <a:off x="963720" y="4334040"/>
            <a:ext cx="195264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1862"/>
          <p:cNvSpPr/>
          <p:nvPr/>
        </p:nvSpPr>
        <p:spPr>
          <a:xfrm>
            <a:off x="2246400" y="5172120"/>
            <a:ext cx="195264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20833" descr=""/>
          <p:cNvPicPr/>
          <p:nvPr/>
        </p:nvPicPr>
        <p:blipFill>
          <a:blip r:embed="rId1"/>
          <a:stretch/>
        </p:blipFill>
        <p:spPr>
          <a:xfrm>
            <a:off x="304920" y="2319480"/>
            <a:ext cx="8534160" cy="221904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20834"/>
          <p:cNvSpPr/>
          <p:nvPr/>
        </p:nvSpPr>
        <p:spPr>
          <a:xfrm>
            <a:off x="8113680" y="3292560"/>
            <a:ext cx="3603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19809" descr=""/>
          <p:cNvPicPr/>
          <p:nvPr/>
        </p:nvPicPr>
        <p:blipFill>
          <a:blip r:embed="rId1"/>
          <a:stretch/>
        </p:blipFill>
        <p:spPr>
          <a:xfrm>
            <a:off x="476280" y="1386000"/>
            <a:ext cx="8191440" cy="408600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19810"/>
          <p:cNvSpPr/>
          <p:nvPr/>
        </p:nvSpPr>
        <p:spPr>
          <a:xfrm>
            <a:off x="3274920" y="4378320"/>
            <a:ext cx="547380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19811"/>
          <p:cNvSpPr/>
          <p:nvPr/>
        </p:nvSpPr>
        <p:spPr>
          <a:xfrm>
            <a:off x="1471680" y="4962600"/>
            <a:ext cx="173196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118785" descr=""/>
          <p:cNvPicPr/>
          <p:nvPr/>
        </p:nvPicPr>
        <p:blipFill>
          <a:blip r:embed="rId1"/>
          <a:stretch/>
        </p:blipFill>
        <p:spPr>
          <a:xfrm>
            <a:off x="433440" y="2233440"/>
            <a:ext cx="8277120" cy="2391120"/>
          </a:xfrm>
          <a:prstGeom prst="rect">
            <a:avLst/>
          </a:prstGeom>
          <a:ln w="0">
            <a:noFill/>
          </a:ln>
        </p:spPr>
      </p:pic>
      <p:sp>
        <p:nvSpPr>
          <p:cNvPr id="1461" name="矩形 118786"/>
          <p:cNvSpPr/>
          <p:nvPr/>
        </p:nvSpPr>
        <p:spPr>
          <a:xfrm>
            <a:off x="8228160" y="2314440"/>
            <a:ext cx="36036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8787"/>
          <p:cNvSpPr/>
          <p:nvPr/>
        </p:nvSpPr>
        <p:spPr>
          <a:xfrm>
            <a:off x="1535040" y="2924280"/>
            <a:ext cx="44053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8788"/>
          <p:cNvSpPr/>
          <p:nvPr/>
        </p:nvSpPr>
        <p:spPr>
          <a:xfrm>
            <a:off x="8228160" y="3483000"/>
            <a:ext cx="36036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8789"/>
          <p:cNvSpPr/>
          <p:nvPr/>
        </p:nvSpPr>
        <p:spPr>
          <a:xfrm>
            <a:off x="1459080" y="4118040"/>
            <a:ext cx="296856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7761" descr=""/>
          <p:cNvPicPr/>
          <p:nvPr/>
        </p:nvPicPr>
        <p:blipFill>
          <a:blip r:embed="rId1"/>
          <a:stretch/>
        </p:blipFill>
        <p:spPr>
          <a:xfrm>
            <a:off x="442800" y="1362240"/>
            <a:ext cx="8258400" cy="413352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7762"/>
          <p:cNvSpPr/>
          <p:nvPr/>
        </p:nvSpPr>
        <p:spPr>
          <a:xfrm>
            <a:off x="7923240" y="2682720"/>
            <a:ext cx="36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7:41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